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85A4-E162-4032-B0EE-88426D992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42840" y="704880"/>
            <a:ext cx="4972320" cy="3441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ball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attrac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in the electrome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repel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el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can flow through the metal, leaving the gold leaf and its support with a net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Very light leaf lifts up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42840" y="704880"/>
            <a:ext cx="4972320" cy="34416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ball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attrac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in the electrome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repel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el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can flow through the metal, leaving the gold leaf and its support with a net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Very light leaf lifts up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42840" y="704880"/>
            <a:ext cx="4972320" cy="34416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ball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attrac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in the electrome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repel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el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can flow through the metal, leaving the gold leaf and its support with a net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Very light leaf lifts up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stupendously large is the range of frequencies, and how narrow is the range of frequencies of 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how different a millimetre is from a kilomet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think how different a radio wave (1 million oscillations per second (say)) is from a light wave, (1000 million million oscillations per second ) WO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stupendously large is the range of frequencies, and how narrow is the range of frequencies of 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how different a millimetre is from a kilomet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think how different a radio wave (1 million oscillations per second (say)) is from a light wave, (1000 million million oscillations per second ) WO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40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4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40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600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0200" y="800280"/>
            <a:ext cx="7232760" cy="13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692760" y="5753160"/>
            <a:ext cx="1616040" cy="1052280"/>
            <a:chOff x="6692760" y="5753160"/>
            <a:chExt cx="1616040" cy="105228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7201080" y="5753160"/>
              <a:ext cx="110772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692760" y="5867280"/>
              <a:ext cx="567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8356680" y="0"/>
            <a:ext cx="78084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light/u12l2e.cf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m9X04AGkyw&amp;feature=player_embedd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igh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2278080" cy="262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28472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Some questions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at’s vibra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some materials transpa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 my students need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Shadows, pinhole cameras and the eye.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major issues with practical work on l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 vs experi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olour.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hysicsclassroom.com/class/light/u12l2e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olormatters.com/opti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an you experiment with coloured l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r art department help/hin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Image formation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o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diagrams for mirrors and l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Pepper’s Ghost.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rm9X04AGkyw&amp;feature=player_embe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ice answer to ‘Why do we have to do this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Why are we here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the day, you should be able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ght, spectra and colour in terms of particle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vision in terms of the radi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lour filtering and mixing by addition and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formation of images in plane mirrors and convex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9480" y="3124080"/>
            <a:ext cx="33004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What is ligh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00"/>
                </a:solidFill>
                <a:latin typeface="Arial"/>
              </a:rPr>
              <a:t>A Question</a:t>
            </a:r>
            <a:endParaRPr b="1" lang="en-US" sz="36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H="1">
            <a:off x="6570720" y="2687760"/>
            <a:ext cx="1055520" cy="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solidFill>
            <a:srgbClr val="1a5895"/>
          </a:solidFill>
          <a:ln w="0">
            <a:noFill/>
          </a:ln>
        </p:spPr>
        <p:txBody>
          <a:bodyPr lIns="92160" rIns="92160" tIns="108000" bIns="10800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ets take a look at some odd phenomena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6240" y="3943440"/>
            <a:ext cx="445932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loon and an elect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41120" y="6172200"/>
            <a:ext cx="944856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02280" y="3149640"/>
            <a:ext cx="2192400" cy="29844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97760" y="2666880"/>
            <a:ext cx="0" cy="285768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1360" y="4502160"/>
            <a:ext cx="0" cy="1009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2760" y="-1032120"/>
            <a:ext cx="4676040" cy="4600440"/>
            <a:chOff x="302760" y="-1032120"/>
            <a:chExt cx="4676040" cy="4600440"/>
          </a:xfrm>
        </p:grpSpPr>
        <p:grpSp>
          <p:nvGrpSpPr>
            <p:cNvPr id="64" name=""/>
            <p:cNvGrpSpPr/>
            <p:nvPr/>
          </p:nvGrpSpPr>
          <p:grpSpPr>
            <a:xfrm>
              <a:off x="302760" y="-1032120"/>
              <a:ext cx="4676040" cy="4600440"/>
              <a:chOff x="302760" y="-1032120"/>
              <a:chExt cx="4676040" cy="4600440"/>
            </a:xfrm>
          </p:grpSpPr>
          <p:sp>
            <p:nvSpPr>
              <p:cNvPr id="65" name=""/>
              <p:cNvSpPr/>
              <p:nvPr/>
            </p:nvSpPr>
            <p:spPr>
              <a:xfrm rot="7599000">
                <a:off x="1074960" y="-480960"/>
                <a:ext cx="3131280" cy="349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7599000">
                <a:off x="814680" y="-29880"/>
                <a:ext cx="569160" cy="303120"/>
              </a:xfrm>
              <a:prstGeom prst="triangle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648800" y="228348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9120" y="248328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33080" y="27050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59240" y="282060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2960" y="28857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6520" y="2838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42400" y="268092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8400" y="2406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4400" y="218232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50720" y="19904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848640" y="4619520"/>
            <a:ext cx="99360" cy="897120"/>
            <a:chOff x="6848640" y="4619520"/>
            <a:chExt cx="99360" cy="897120"/>
          </a:xfrm>
        </p:grpSpPr>
        <p:sp>
          <p:nvSpPr>
            <p:cNvPr id="78" name=""/>
            <p:cNvSpPr/>
            <p:nvPr/>
          </p:nvSpPr>
          <p:spPr>
            <a:xfrm>
              <a:off x="6848640" y="46195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8640" y="479916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48640" y="49784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48640" y="51577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48640" y="533700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48640" y="55166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65920" y="46195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5920" y="479916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5920" y="49784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65920" y="51577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5920" y="533700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65920" y="55166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432480" y="2478240"/>
            <a:ext cx="1339560" cy="166680"/>
            <a:chOff x="6432480" y="2478240"/>
            <a:chExt cx="1339560" cy="166680"/>
          </a:xfrm>
        </p:grpSpPr>
        <p:grpSp>
          <p:nvGrpSpPr>
            <p:cNvPr id="91" name=""/>
            <p:cNvGrpSpPr/>
            <p:nvPr/>
          </p:nvGrpSpPr>
          <p:grpSpPr>
            <a:xfrm>
              <a:off x="6571440" y="2479680"/>
              <a:ext cx="83160" cy="93600"/>
              <a:chOff x="6571440" y="2479680"/>
              <a:chExt cx="83160" cy="93600"/>
            </a:xfrm>
          </p:grpSpPr>
          <p:sp>
            <p:nvSpPr>
              <p:cNvPr id="92" name=""/>
              <p:cNvSpPr/>
              <p:nvPr/>
            </p:nvSpPr>
            <p:spPr>
              <a:xfrm>
                <a:off x="661320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57144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694560" y="2479680"/>
              <a:ext cx="83160" cy="93600"/>
              <a:chOff x="6694560" y="2479680"/>
              <a:chExt cx="83160" cy="93600"/>
            </a:xfrm>
          </p:grpSpPr>
          <p:sp>
            <p:nvSpPr>
              <p:cNvPr id="95" name=""/>
              <p:cNvSpPr/>
              <p:nvPr/>
            </p:nvSpPr>
            <p:spPr>
              <a:xfrm>
                <a:off x="673632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9456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819480" y="2479680"/>
              <a:ext cx="83160" cy="93600"/>
              <a:chOff x="6819480" y="2479680"/>
              <a:chExt cx="83160" cy="93600"/>
            </a:xfrm>
          </p:grpSpPr>
          <p:sp>
            <p:nvSpPr>
              <p:cNvPr id="98" name=""/>
              <p:cNvSpPr/>
              <p:nvPr/>
            </p:nvSpPr>
            <p:spPr>
              <a:xfrm>
                <a:off x="686124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1948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944040" y="2479680"/>
              <a:ext cx="84600" cy="93600"/>
              <a:chOff x="6944040" y="2479680"/>
              <a:chExt cx="84600" cy="93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98652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44040" y="2525040"/>
                <a:ext cx="8460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070040" y="2479680"/>
              <a:ext cx="83160" cy="93600"/>
              <a:chOff x="7070040" y="2479680"/>
              <a:chExt cx="83160" cy="93600"/>
            </a:xfrm>
          </p:grpSpPr>
          <p:sp>
            <p:nvSpPr>
              <p:cNvPr id="104" name=""/>
              <p:cNvSpPr/>
              <p:nvPr/>
            </p:nvSpPr>
            <p:spPr>
              <a:xfrm>
                <a:off x="711180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7004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194600" y="2478240"/>
              <a:ext cx="83160" cy="93600"/>
              <a:chOff x="7194600" y="2478240"/>
              <a:chExt cx="83160" cy="93600"/>
            </a:xfrm>
          </p:grpSpPr>
          <p:sp>
            <p:nvSpPr>
              <p:cNvPr id="107" name=""/>
              <p:cNvSpPr/>
              <p:nvPr/>
            </p:nvSpPr>
            <p:spPr>
              <a:xfrm>
                <a:off x="723636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94600" y="252360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319520" y="2478240"/>
              <a:ext cx="83160" cy="93600"/>
              <a:chOff x="7319520" y="2478240"/>
              <a:chExt cx="83160" cy="93600"/>
            </a:xfrm>
          </p:grpSpPr>
          <p:sp>
            <p:nvSpPr>
              <p:cNvPr id="110" name=""/>
              <p:cNvSpPr/>
              <p:nvPr/>
            </p:nvSpPr>
            <p:spPr>
              <a:xfrm>
                <a:off x="736128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19520" y="252360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443720" y="2478240"/>
              <a:ext cx="83520" cy="93600"/>
              <a:chOff x="7443720" y="2478240"/>
              <a:chExt cx="83520" cy="93600"/>
            </a:xfrm>
          </p:grpSpPr>
          <p:sp>
            <p:nvSpPr>
              <p:cNvPr id="113" name=""/>
              <p:cNvSpPr/>
              <p:nvPr/>
            </p:nvSpPr>
            <p:spPr>
              <a:xfrm>
                <a:off x="748584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443720" y="2523600"/>
                <a:ext cx="8352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568280" y="2478240"/>
              <a:ext cx="84960" cy="93600"/>
              <a:chOff x="7568280" y="2478240"/>
              <a:chExt cx="84960" cy="93600"/>
            </a:xfrm>
          </p:grpSpPr>
          <p:sp>
            <p:nvSpPr>
              <p:cNvPr id="116" name=""/>
              <p:cNvSpPr/>
              <p:nvPr/>
            </p:nvSpPr>
            <p:spPr>
              <a:xfrm>
                <a:off x="761112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68280" y="2523600"/>
                <a:ext cx="849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688880" y="2544840"/>
              <a:ext cx="83160" cy="93600"/>
              <a:chOff x="7688880" y="2544840"/>
              <a:chExt cx="83160" cy="93600"/>
            </a:xfrm>
          </p:grpSpPr>
          <p:sp>
            <p:nvSpPr>
              <p:cNvPr id="119" name=""/>
              <p:cNvSpPr/>
              <p:nvPr/>
            </p:nvSpPr>
            <p:spPr>
              <a:xfrm>
                <a:off x="7730640" y="25448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259020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432480" y="2550960"/>
              <a:ext cx="84600" cy="93960"/>
              <a:chOff x="6432480" y="2550960"/>
              <a:chExt cx="84600" cy="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6474960" y="2550960"/>
                <a:ext cx="0" cy="939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32480" y="2596680"/>
                <a:ext cx="8460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7259760" y="4622760"/>
            <a:ext cx="101160" cy="897120"/>
            <a:chOff x="7259760" y="4622760"/>
            <a:chExt cx="101160" cy="897120"/>
          </a:xfrm>
        </p:grpSpPr>
        <p:sp>
          <p:nvSpPr>
            <p:cNvPr id="125" name=""/>
            <p:cNvSpPr/>
            <p:nvPr/>
          </p:nvSpPr>
          <p:spPr>
            <a:xfrm>
              <a:off x="7259760" y="46227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59760" y="480240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59760" y="49816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59760" y="51609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59760" y="534024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9760" y="55198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77400" y="46227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77400" y="480240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77400" y="49816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77400" y="51609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77400" y="534024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77400" y="55198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7087680" y="4514760"/>
            <a:ext cx="163800" cy="64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1520" bIns="-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45 -0.25486 L 3.07692E-006 1.11111E-006 E">
                                      <p:cBhvr>
                                        <p:cTn id="2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45 -0.25486 L 3.07692E-006 1.11111E-006 E">
                                      <p:cBhvr>
                                        <p:cTn id="2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8205E-006 4.44444E-006 L 0.02692 -0.00047 E">
                                      <p:cBhvr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1 -0.00972 L 0.03958 -0.00972 E">
                                      <p:cBhvr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2346E-007 -2.89017E-006 L 4.32346E-007 -0.12763 E">
                                      <p:cBhvr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64 -2.59259E-006 L 0.01074 -0.00046 E">
                                      <p:cBhvr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49 -0.00926 L 0.00721 -0.00856 E">
                                      <p:cBhvr>
                                        <p:cTn id="4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2821E-007 -0.12754 L 5.12821E-007 0.00116 E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6 -2.59259E-006 L 0.02564 -0.00046 E">
                                      <p:cBhvr>
                                        <p:cTn id="5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4 -0.00787 L 0.0391 -0.00879 E">
                                      <p:cBhvr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H="1">
            <a:off x="6570720" y="2687760"/>
            <a:ext cx="1055520" cy="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solidFill>
            <a:srgbClr val="1a5895"/>
          </a:solidFill>
          <a:ln w="0">
            <a:noFill/>
          </a:ln>
        </p:spPr>
        <p:txBody>
          <a:bodyPr lIns="92160" rIns="92160" tIns="108000" bIns="10800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ets take a look at some odd phenomena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141120" y="6172200"/>
            <a:ext cx="944856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02280" y="3149640"/>
            <a:ext cx="2192400" cy="29844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097760" y="2666880"/>
            <a:ext cx="0" cy="285768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91360" y="4502160"/>
            <a:ext cx="158760" cy="9525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2760" y="-1032120"/>
            <a:ext cx="4676040" cy="4600440"/>
            <a:chOff x="302760" y="-1032120"/>
            <a:chExt cx="4676040" cy="4600440"/>
          </a:xfrm>
        </p:grpSpPr>
        <p:grpSp>
          <p:nvGrpSpPr>
            <p:cNvPr id="145" name=""/>
            <p:cNvGrpSpPr/>
            <p:nvPr/>
          </p:nvGrpSpPr>
          <p:grpSpPr>
            <a:xfrm>
              <a:off x="302760" y="-1032120"/>
              <a:ext cx="4676040" cy="4600440"/>
              <a:chOff x="302760" y="-1032120"/>
              <a:chExt cx="4676040" cy="4600440"/>
            </a:xfrm>
          </p:grpSpPr>
          <p:sp>
            <p:nvSpPr>
              <p:cNvPr id="146" name=""/>
              <p:cNvSpPr/>
              <p:nvPr/>
            </p:nvSpPr>
            <p:spPr>
              <a:xfrm rot="7599000">
                <a:off x="1074960" y="-480960"/>
                <a:ext cx="3131280" cy="349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7599000">
                <a:off x="814680" y="-29880"/>
                <a:ext cx="569160" cy="303120"/>
              </a:xfrm>
              <a:prstGeom prst="triangle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648800" y="228348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69120" y="248328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33080" y="27050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9240" y="282060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2960" y="28857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6520" y="2838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42400" y="268092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8400" y="2406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4400" y="218232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0720" y="19904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7087680" y="4514760"/>
            <a:ext cx="163800" cy="64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1520" bIns="-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666720"/>
            <a:ext cx="827280" cy="1619280"/>
          </a:xfrm>
          <a:prstGeom prst="upDownArrow">
            <a:avLst>
              <a:gd name="adj1" fmla="val 50000"/>
              <a:gd name="adj2" fmla="val 389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656400" y="5310000"/>
            <a:ext cx="895320" cy="1495080"/>
          </a:xfrm>
          <a:prstGeom prst="upDownArrow">
            <a:avLst>
              <a:gd name="adj1" fmla="val 50000"/>
              <a:gd name="adj2" fmla="val 3324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6600" y="3943440"/>
            <a:ext cx="50227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loon and an elect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ggling the ballo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 the electroscope to wi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flipH="1">
            <a:off x="6570720" y="2687760"/>
            <a:ext cx="1055520" cy="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solidFill>
            <a:srgbClr val="1a5895"/>
          </a:solidFill>
          <a:ln w="0">
            <a:noFill/>
          </a:ln>
        </p:spPr>
        <p:txBody>
          <a:bodyPr lIns="92160" rIns="92160" tIns="108000" bIns="10800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ets take a look at some odd phenomena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41120" y="6172200"/>
            <a:ext cx="944856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02280" y="3149640"/>
            <a:ext cx="2192400" cy="29844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097760" y="2666880"/>
            <a:ext cx="0" cy="285768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91360" y="4502160"/>
            <a:ext cx="158760" cy="9525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2760" y="-1032120"/>
            <a:ext cx="4676040" cy="4600440"/>
            <a:chOff x="302760" y="-1032120"/>
            <a:chExt cx="4676040" cy="4600440"/>
          </a:xfrm>
        </p:grpSpPr>
        <p:grpSp>
          <p:nvGrpSpPr>
            <p:cNvPr id="169" name=""/>
            <p:cNvGrpSpPr/>
            <p:nvPr/>
          </p:nvGrpSpPr>
          <p:grpSpPr>
            <a:xfrm>
              <a:off x="302760" y="-1032120"/>
              <a:ext cx="4676040" cy="4600440"/>
              <a:chOff x="302760" y="-1032120"/>
              <a:chExt cx="4676040" cy="4600440"/>
            </a:xfrm>
          </p:grpSpPr>
          <p:sp>
            <p:nvSpPr>
              <p:cNvPr id="170" name=""/>
              <p:cNvSpPr/>
              <p:nvPr/>
            </p:nvSpPr>
            <p:spPr>
              <a:xfrm rot="7599000">
                <a:off x="1074960" y="-480960"/>
                <a:ext cx="3131280" cy="349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7599000">
                <a:off x="814680" y="-29880"/>
                <a:ext cx="569160" cy="303120"/>
              </a:xfrm>
              <a:prstGeom prst="triangle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648800" y="228348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69120" y="248328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33080" y="27050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59240" y="282060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2960" y="28857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6520" y="2838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42400" y="268092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8400" y="2406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4400" y="218232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50720" y="19904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H="1">
            <a:off x="7087680" y="4514760"/>
            <a:ext cx="163800" cy="64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1520" bIns="-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666720"/>
            <a:ext cx="827280" cy="1619280"/>
          </a:xfrm>
          <a:prstGeom prst="upDownArrow">
            <a:avLst>
              <a:gd name="adj1" fmla="val 50000"/>
              <a:gd name="adj2" fmla="val 389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6656400" y="5310000"/>
            <a:ext cx="895320" cy="1495080"/>
          </a:xfrm>
          <a:prstGeom prst="upDownArrow">
            <a:avLst>
              <a:gd name="adj1" fmla="val 50000"/>
              <a:gd name="adj2" fmla="val 3324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6600" y="3124080"/>
            <a:ext cx="50227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alloon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electric waves (technically electromagnetic)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ing electroscop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electric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-361800"/>
            <a:ext cx="9144000" cy="721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6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513360" y="4419360"/>
            <a:ext cx="26845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0.8 GH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00 G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22640" y="-399960"/>
            <a:ext cx="216360" cy="6448320"/>
            <a:chOff x="5822640" y="-399960"/>
            <a:chExt cx="216360" cy="6448320"/>
          </a:xfrm>
        </p:grpSpPr>
        <p:sp>
          <p:nvSpPr>
            <p:cNvPr id="190" name=""/>
            <p:cNvSpPr/>
            <p:nvPr/>
          </p:nvSpPr>
          <p:spPr>
            <a:xfrm rot="5400000">
              <a:off x="2761920" y="2762280"/>
              <a:ext cx="6438960" cy="114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2674440" y="2786040"/>
              <a:ext cx="6410160" cy="114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2600" y="6059520"/>
            <a:ext cx="282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560" y="60674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91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69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738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770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805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83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86960" y="60548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42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59520" y="604368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3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468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406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341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8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32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6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106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044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9792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91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043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90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78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572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1366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257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1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3051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6939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08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737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2531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6419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3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4213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81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2010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8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98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3692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75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9669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463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2960" y="523800"/>
            <a:ext cx="19922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dio &amp;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73640" y="523800"/>
            <a:ext cx="14191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r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54560" y="2100240"/>
            <a:ext cx="15253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78600" y="523800"/>
            <a:ext cx="12654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amma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50240" y="2112840"/>
            <a:ext cx="14954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67440" y="523800"/>
            <a:ext cx="9478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ltra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93280" y="6305400"/>
            <a:ext cx="27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(He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386280" y="2152440"/>
            <a:ext cx="812160" cy="738720"/>
            <a:chOff x="-386280" y="2152440"/>
            <a:chExt cx="812160" cy="738720"/>
          </a:xfrm>
        </p:grpSpPr>
        <p:grpSp>
          <p:nvGrpSpPr>
            <p:cNvPr id="246" name=""/>
            <p:cNvGrpSpPr/>
            <p:nvPr/>
          </p:nvGrpSpPr>
          <p:grpSpPr>
            <a:xfrm>
              <a:off x="-386280" y="2152440"/>
              <a:ext cx="812160" cy="738720"/>
              <a:chOff x="-386280" y="2152440"/>
              <a:chExt cx="812160" cy="738720"/>
            </a:xfrm>
          </p:grpSpPr>
          <p:sp>
            <p:nvSpPr>
              <p:cNvPr id="247" name=""/>
              <p:cNvSpPr/>
              <p:nvPr/>
            </p:nvSpPr>
            <p:spPr>
              <a:xfrm rot="6875400">
                <a:off x="-235440" y="2191680"/>
                <a:ext cx="510840" cy="659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6875400">
                <a:off x="-316800" y="231948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-57960" y="2721600"/>
              <a:ext cx="47520" cy="48240"/>
              <a:chOff x="-57960" y="2721600"/>
              <a:chExt cx="47520" cy="4824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-33840" y="27216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-57960" y="27457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1960" y="2733120"/>
              <a:ext cx="47520" cy="48240"/>
              <a:chOff x="21960" y="2733120"/>
              <a:chExt cx="47520" cy="4824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45720" y="2733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1960" y="2757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11240" y="2732760"/>
              <a:ext cx="47520" cy="48240"/>
              <a:chOff x="111240" y="2732760"/>
              <a:chExt cx="47520" cy="4824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135000" y="27327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11240" y="27568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00880" y="2697120"/>
              <a:ext cx="47520" cy="48240"/>
              <a:chOff x="200880" y="2697120"/>
              <a:chExt cx="47520" cy="4824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224640" y="2697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0880" y="2721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66400" y="2613240"/>
              <a:ext cx="47520" cy="48240"/>
              <a:chOff x="266400" y="2613240"/>
              <a:chExt cx="47520" cy="4824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290160" y="26132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66400" y="26373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84040" y="2529360"/>
              <a:ext cx="47520" cy="48240"/>
              <a:chOff x="284040" y="2529360"/>
              <a:chExt cx="47520" cy="4824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307800" y="25293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84040" y="25534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6119640" y="4734000"/>
            <a:ext cx="2602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1000 THz (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82760" y="4734000"/>
            <a:ext cx="2602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00 THz (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2813040" cy="990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magnetic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trum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84680" y="3057120"/>
            <a:ext cx="811800" cy="738720"/>
            <a:chOff x="184680" y="3057120"/>
            <a:chExt cx="811800" cy="738720"/>
          </a:xfrm>
        </p:grpSpPr>
        <p:grpSp>
          <p:nvGrpSpPr>
            <p:cNvPr id="271" name=""/>
            <p:cNvGrpSpPr/>
            <p:nvPr/>
          </p:nvGrpSpPr>
          <p:grpSpPr>
            <a:xfrm>
              <a:off x="184680" y="3057120"/>
              <a:ext cx="811800" cy="738720"/>
              <a:chOff x="184680" y="3057120"/>
              <a:chExt cx="811800" cy="738720"/>
            </a:xfrm>
          </p:grpSpPr>
          <p:sp>
            <p:nvSpPr>
              <p:cNvPr id="272" name=""/>
              <p:cNvSpPr/>
              <p:nvPr/>
            </p:nvSpPr>
            <p:spPr>
              <a:xfrm rot="6875400">
                <a:off x="334800" y="3096720"/>
                <a:ext cx="510840" cy="6591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875400">
                <a:off x="253800" y="322416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13000" y="3626280"/>
              <a:ext cx="47520" cy="48240"/>
              <a:chOff x="513000" y="3626280"/>
              <a:chExt cx="47520" cy="4824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536760" y="362628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13000" y="365040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93640" y="3637800"/>
              <a:ext cx="47520" cy="48240"/>
              <a:chOff x="593640" y="3637800"/>
              <a:chExt cx="47520" cy="4824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617400" y="3637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93640" y="3661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82920" y="3637440"/>
              <a:ext cx="47520" cy="48240"/>
              <a:chOff x="682920" y="3637440"/>
              <a:chExt cx="47520" cy="4824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706680" y="36374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82920" y="36615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72200" y="3601800"/>
              <a:ext cx="47520" cy="48240"/>
              <a:chOff x="772200" y="3601800"/>
              <a:chExt cx="47520" cy="4824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795960" y="3601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72200" y="3625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37720" y="3517920"/>
              <a:ext cx="47520" cy="48240"/>
              <a:chOff x="837720" y="3517920"/>
              <a:chExt cx="47520" cy="4824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861480" y="35179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37720" y="35420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855360" y="3434040"/>
              <a:ext cx="47520" cy="48240"/>
              <a:chOff x="855360" y="3434040"/>
              <a:chExt cx="47520" cy="4824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879120" y="34340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855360" y="34581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autoRev="1" nodeType="click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113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autoRev="1" nodeType="click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123" dur="5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-361800"/>
            <a:ext cx="9144000" cy="721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-361800"/>
            <a:ext cx="9288360" cy="6400800"/>
            <a:chOff x="0" y="-361800"/>
            <a:chExt cx="9288360" cy="6400800"/>
          </a:xfrm>
        </p:grpSpPr>
        <p:sp>
          <p:nvSpPr>
            <p:cNvPr id="294" name=""/>
            <p:cNvSpPr/>
            <p:nvPr/>
          </p:nvSpPr>
          <p:spPr>
            <a:xfrm>
              <a:off x="5016600" y="-361800"/>
              <a:ext cx="1836720" cy="6400800"/>
            </a:xfrm>
            <a:prstGeom prst="rect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18400" y="-361800"/>
              <a:ext cx="2469960" cy="64008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-361800"/>
              <a:ext cx="5057640" cy="64008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486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822640" y="-399960"/>
            <a:ext cx="216360" cy="6448320"/>
            <a:chOff x="5822640" y="-399960"/>
            <a:chExt cx="216360" cy="6448320"/>
          </a:xfrm>
        </p:grpSpPr>
        <p:sp>
          <p:nvSpPr>
            <p:cNvPr id="299" name=""/>
            <p:cNvSpPr/>
            <p:nvPr/>
          </p:nvSpPr>
          <p:spPr>
            <a:xfrm rot="5400000">
              <a:off x="2761920" y="2762280"/>
              <a:ext cx="6438960" cy="114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2674440" y="2786040"/>
              <a:ext cx="6410160" cy="114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2600" y="6059520"/>
            <a:ext cx="282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560" y="60674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2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91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69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738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770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805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83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86960" y="60548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642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59520" y="604368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53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468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406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341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8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32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16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106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044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19792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591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043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890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78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3572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1366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257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1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3051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6939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08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737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2531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6419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03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4213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81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2010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58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98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83692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75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669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7463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2960" y="523800"/>
            <a:ext cx="19922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dio &amp;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73640" y="523800"/>
            <a:ext cx="14191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r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54560" y="2100240"/>
            <a:ext cx="15253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78600" y="523800"/>
            <a:ext cx="12654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amma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50240" y="2112840"/>
            <a:ext cx="14954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67440" y="523800"/>
            <a:ext cx="9478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ltra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44720" y="4011480"/>
            <a:ext cx="21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n-ionising 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generally not so b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57840" y="3941640"/>
            <a:ext cx="18288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Ionising 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(generally bad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93280" y="6305400"/>
            <a:ext cx="27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(He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-386280" y="2152440"/>
            <a:ext cx="812160" cy="738720"/>
            <a:chOff x="-386280" y="2152440"/>
            <a:chExt cx="812160" cy="738720"/>
          </a:xfrm>
        </p:grpSpPr>
        <p:grpSp>
          <p:nvGrpSpPr>
            <p:cNvPr id="357" name=""/>
            <p:cNvGrpSpPr/>
            <p:nvPr/>
          </p:nvGrpSpPr>
          <p:grpSpPr>
            <a:xfrm>
              <a:off x="-386280" y="2152440"/>
              <a:ext cx="812160" cy="738720"/>
              <a:chOff x="-386280" y="2152440"/>
              <a:chExt cx="812160" cy="738720"/>
            </a:xfrm>
          </p:grpSpPr>
          <p:sp>
            <p:nvSpPr>
              <p:cNvPr id="358" name=""/>
              <p:cNvSpPr/>
              <p:nvPr/>
            </p:nvSpPr>
            <p:spPr>
              <a:xfrm rot="6875400">
                <a:off x="-235440" y="2191680"/>
                <a:ext cx="510840" cy="659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875400">
                <a:off x="-316800" y="231948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-57960" y="2721600"/>
              <a:ext cx="47520" cy="48240"/>
              <a:chOff x="-57960" y="2721600"/>
              <a:chExt cx="47520" cy="482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-33840" y="27216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-57960" y="27457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21960" y="2733120"/>
              <a:ext cx="47520" cy="48240"/>
              <a:chOff x="21960" y="2733120"/>
              <a:chExt cx="47520" cy="4824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45720" y="2733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1960" y="2757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111240" y="2732760"/>
              <a:ext cx="47520" cy="48240"/>
              <a:chOff x="111240" y="2732760"/>
              <a:chExt cx="47520" cy="48240"/>
            </a:xfrm>
          </p:grpSpPr>
          <p:sp>
            <p:nvSpPr>
              <p:cNvPr id="367" name=""/>
              <p:cNvSpPr/>
              <p:nvPr/>
            </p:nvSpPr>
            <p:spPr>
              <a:xfrm flipV="1">
                <a:off x="135000" y="27327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11240" y="27568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00880" y="2697120"/>
              <a:ext cx="47520" cy="48240"/>
              <a:chOff x="200880" y="2697120"/>
              <a:chExt cx="47520" cy="48240"/>
            </a:xfrm>
          </p:grpSpPr>
          <p:sp>
            <p:nvSpPr>
              <p:cNvPr id="370" name=""/>
              <p:cNvSpPr/>
              <p:nvPr/>
            </p:nvSpPr>
            <p:spPr>
              <a:xfrm flipV="1">
                <a:off x="224640" y="2697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200880" y="2721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66400" y="2613240"/>
              <a:ext cx="47520" cy="48240"/>
              <a:chOff x="266400" y="2613240"/>
              <a:chExt cx="47520" cy="48240"/>
            </a:xfrm>
          </p:grpSpPr>
          <p:sp>
            <p:nvSpPr>
              <p:cNvPr id="373" name=""/>
              <p:cNvSpPr/>
              <p:nvPr/>
            </p:nvSpPr>
            <p:spPr>
              <a:xfrm flipV="1">
                <a:off x="290160" y="26132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266400" y="26373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84040" y="2529360"/>
              <a:ext cx="47520" cy="48240"/>
              <a:chOff x="284040" y="2529360"/>
              <a:chExt cx="47520" cy="48240"/>
            </a:xfrm>
          </p:grpSpPr>
          <p:sp>
            <p:nvSpPr>
              <p:cNvPr id="376" name=""/>
              <p:cNvSpPr/>
              <p:nvPr/>
            </p:nvSpPr>
            <p:spPr>
              <a:xfrm flipV="1">
                <a:off x="307800" y="25293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84040" y="25534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magnetic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trum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0" y="4925880"/>
            <a:ext cx="1028880" cy="11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50524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Absorbing, reflecting and transmitting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ligh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your own spect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ing the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50:04Z</dcterms:created>
  <dc:creator>Neil Adams</dc:creator>
  <dc:description/>
  <dc:language>en-US</dc:language>
  <cp:lastModifiedBy>Neil Adams</cp:lastModifiedBy>
  <dcterms:modified xsi:type="dcterms:W3CDTF">2010-12-13T18:08:15Z</dcterms:modified>
  <cp:revision>4</cp:revision>
  <dc:subject/>
  <dc:title>Slide 1</dc:title>
</cp:coreProperties>
</file>